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298F-1F21-4984-B281-19C5C3C83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9C0C-AC32-4B2F-B2DE-50EC96B59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5E39-110E-4AC6-B295-9A72B0C44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41CE-E764-4197-8E85-2E8AB1E81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1845-FB72-4359-9FC9-A273B44C4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0C7B-7C21-499E-97A7-1F0D33A6D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9142-A29A-4DD0-8516-3169DC1EE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4F7D-ED9E-4164-BF84-E57BEAA5C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973A-6B7E-4ED7-9F37-C4AE82DAA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F099-166A-4493-896C-58562A823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5F78-32FD-476E-BE26-CC58D3509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AADE-F966-4A2E-BB21-DCF0C829F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7CB3-381A-4A72-A739-365F0733B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D7B8-CF7E-4EEC-8F77-7F4E42763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EF0C-325E-4D84-A21D-814E7B4BD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F02F-FC16-4EF7-B75B-717F8EDD1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921F-F516-41BD-9EF8-6E42883F9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31A4-26AB-4505-860B-87C612408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C8AB-4D17-4168-A326-8E4C2A362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C1C5-E818-40BB-B86A-B75F68173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1697-EF10-4E2E-B8F9-F0FDC4340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ACAE-C38C-42B6-AE9E-861595E49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4BF6-E6DE-4F9C-A04D-0FC48D661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1F06-D6AA-4AE0-9CED-CFEA63F0D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3CB4-25D6-48A0-9DE1-E1CE94D85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8E22-D391-48FB-8EFF-92B9C21D7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4C68-0F8E-4E7C-B4A5-3E6F4135F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183E-31A0-4FF0-BB20-25E87FEC2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10FD-8766-4EFF-9B35-534947D59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EC6-62EF-4BF9-831F-F5B40ED6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31A-A9F5-4E5B-8FD6-75D55C4E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770-F1C1-46AF-B114-2527C4CF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D95-93A3-4298-A423-4820EF1A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8DD6-E61F-4054-9155-22AA4C5A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EE96-CF84-4516-8F73-AA0F2E3C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D2BF-A3E9-42B4-B2D6-67FEC861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C522-809F-4682-9DA0-A883BBB5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5A6A-4FCA-429C-B959-EB0955EA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BCA6-BBB8-4F1A-AA62-44A2E8ED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FC2E-CDA8-471E-B5E8-793B2306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26D-33DE-49C0-BF31-9EDC82B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B26A-DDB7-4DD2-BD99-2E66C1E5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4D90-18D2-4414-A1B4-BBEB888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4BFC-6EC0-4477-85A2-3DCDAE4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C595-4CB2-4013-9DF4-3AB57EE6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9F18-856F-4D49-B4CA-4E25B441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683E9-504D-4481-925A-ADF9DB8F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7B017-C5C5-4177-813B-838F401E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36FBF-AEE0-4C57-BEF0-E4F4B8C5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390B8-DA39-4CEC-8543-3F062032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3F7A8-DFF1-41CC-AD35-920E15BD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7BD-0935-4845-886C-C4DCF791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CBEEF-2839-4544-98C5-6FF8EB2F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5DB59-2DE3-46F9-8BF7-9307875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7278D-516D-446A-AAE9-74BAAD61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4C352-9987-456A-88C1-84E83E0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DAFE5-40FC-4F6E-BA52-26ADBA35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6CFF8-1A5A-4E4F-B392-162478F0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A684B-14B4-4901-AF2B-5E1F56D4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4F0E9-7661-423F-8486-E2A071C0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FB7F2-BE9D-40F2-B7D7-63B7489E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EC3C4-240B-4786-8B45-5C176528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2C6-92F5-444B-806E-BD00B223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5C9EC-DA26-4072-96F5-7FFB5CD4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11312-B328-449D-B78D-9A7B821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62514-C2DA-41F7-ADE4-3D3865BF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CE41C-7620-40D6-9FEC-A9F2CBAD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83423-A16B-464A-BCB5-DA5185CD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A55F5-4046-413E-9927-5336F15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CD94F-5295-43BC-9B49-3FA45CC8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5DB69-938D-44A8-8F93-5E2B5BF9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0263A-5A22-41D3-B738-213205A9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24551A-99DB-415B-A060-6E6F0B50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1EE-1E83-4AD3-8BB7-7F8114CD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A4D37-0CEB-430F-8520-0E6CE2D5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6959D-1F1F-49FF-A74C-B87DDF7D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E6BC0-BA04-4B7E-BB65-3AC64436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44D6C-0B59-4A3D-B4A6-ED3C0AF5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A83EB-22CA-4CC3-9EBE-C5DEFEFE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58007-B5FA-48D4-88DA-6FE7F7D7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BB020-AFFE-4C0F-9553-ED08F93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D09B3-FE56-4803-8931-85447C3E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FC4DE-A0C1-4428-A3AA-BE180E7B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55833-4BAB-4474-AAAB-7AC3CC8C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52E-CAA8-4C38-A0D8-F4061967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F1E16-F6B5-46C1-A1F7-DF78F992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012F3-FDE6-451F-BFEB-5649D0C1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D6365-DA68-4014-B708-8EC7A457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AD1A7-DD9F-4283-BF81-D21BBEB6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5F0C-527B-41DF-A6A9-5AEF6A5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C1B9B-8A85-4093-9313-A5D07C10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B17F-F591-48E8-84C0-E3EAE71A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91218-D518-485D-8E72-66BE81C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9A44E-30C4-4BB8-8A53-6C9D029B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90E4-9814-47F6-9CE4-01ACBA57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70E-9013-4287-8E7C-878177D0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7FEF1-38A8-4668-B077-85940D6C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19DF1-C510-42E9-BB84-3D0D1B09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79528-D25E-42F8-89D7-7F144BCE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6D58B-9456-4706-A6A0-976CCD5C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CB525-1024-43C2-BD3D-5DDF41EF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5227B-C0C8-49C0-9F4F-5932BE48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438A6-EEA8-41F7-BF96-9E44B7BC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06F6A-409E-4F5D-97FE-A1BDC48D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C05A1-7576-450B-8CF2-611C9705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1253E-F889-4C90-BD52-9C2F1D4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35E-846D-486E-9CF0-D10115DA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05F26-BB77-4E3E-A7E2-DB1CEC4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E5618-D42A-4B20-AC07-7F444B3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0437A-B23F-4F2C-98B9-A3AA70D4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75039-B476-48D3-AEB6-733B61C0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61A8A-91E3-41AC-ADF4-07BAC206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A3C3-C398-400F-975A-820A52DA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DF4A-3426-4A76-AA85-A125B4B9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4E58-B074-4E36-B6E8-531A3D99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0519D-7593-4771-92E8-28A5C44D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87523-988E-467D-A67A-FCE1A0A7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BCA-2BBB-4481-9076-3A60C735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2D127-E5B3-4468-BDC3-398E855C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BF4DA-869A-494F-8D32-45D734EB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D3CE-DF53-4F9C-ABAE-4217675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0BF5C-75AC-4CA8-9668-2F015300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F022-1191-4D68-870C-47D7B519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B061D-97FA-4A6D-8EF8-8A51DF6B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0584F-59AC-463F-AEBD-9C9AF187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8413-38D7-487D-9D43-D2B56DDAF84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0913-8694-4FEE-BA53-9141BE4126E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A363-6FB3-4820-B5F7-73B2EABD9E2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4620-9ADA-41AB-A6D9-3E2076DD3E9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EACB-CBB0-4E65-9155-6451C74F27F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E23E-E321-4331-AC5F-4B7C9DEBA1B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631-2B6A-477F-BD7C-7660DC7EBAA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6AED-36ED-4793-9962-477CECAE3D0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NORTH CAROLINA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                      STATE PARK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               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e the beauty of the Tar Heel Stat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nes Lake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404040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han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Content Placeholder 4" descr="jones lake.jpg"/>
          <p:cNvPicPr/>
          <p:nvPr/>
        </p:nvPicPr>
        <p:blipFill>
          <a:blip r:embed="rId1"/>
          <a:stretch/>
        </p:blipFill>
        <p:spPr>
          <a:xfrm>
            <a:off x="2700360" y="1905120"/>
            <a:ext cx="5954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Great Geological Myste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ichae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Jones Lake is on of the Carolina bays – one of the greatest geological mysteries of the eastern U.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bays are called that because the sweet bay, loblolly bay, and red bay that grow around them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 was named for a justice of the peace in the mid – 1700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I could go there I would like to go at night where people gather to view meteor shower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smal Swamp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ichael M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Content Placeholder 7" descr="vicky tgaw flickr.jpg"/>
          <p:cNvPicPr/>
          <p:nvPr/>
        </p:nvPicPr>
        <p:blipFill>
          <a:blip r:embed="rId1"/>
          <a:stretch/>
        </p:blipFill>
        <p:spPr>
          <a:xfrm>
            <a:off x="2616120" y="175248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erfect Pla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reat Dismal Swamp is a great place to relax and unwin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t is home to many rare insects and animal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me scientists believe it was formed when a continental shelf made it’s last shif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f we could go there we would go swimming first. (The water isn’t that dirty!) Then we would go fishing and go hom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alls Lake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rand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Content Placeholder 4" descr="falls lake.jpg"/>
          <p:cNvPicPr/>
          <p:nvPr/>
        </p:nvPicPr>
        <p:blipFill>
          <a:blip r:embed="rId1"/>
          <a:stretch/>
        </p:blipFill>
        <p:spPr>
          <a:xfrm>
            <a:off x="2676600" y="1905120"/>
            <a:ext cx="57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Peaceful Parad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alls Lake State Park give people in Raleigh a place to go and relax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imals like dear and rabbit are found there. At night you can hear great-horned, barred, and screech owls. Cool!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all Lake was created by a dam in 1978 to keep the area from flooding and store water for people in the are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f I could go to the park I would like to go at night to hear the owl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t. Mitchell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355d7e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org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ustyn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Content Placeholder 4" descr="mount mitchell.jpg"/>
          <p:cNvPicPr/>
          <p:nvPr/>
        </p:nvPicPr>
        <p:blipFill>
          <a:blip r:embed="rId1"/>
          <a:stretch/>
        </p:blipFill>
        <p:spPr>
          <a:xfrm>
            <a:off x="2862360" y="1981080"/>
            <a:ext cx="5508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             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extraordinary place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than 1 billion  years ago  the Black Mountains were form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unt Mitchell is the tallest peak out of all the Black Mountai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limate of the Black Mountains is more like Canada than North Carolin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wild flower in Mount Mitchell is a ox-eye dais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rges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81875a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utum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Content Placeholder 4" descr="gorges.jpg"/>
          <p:cNvPicPr/>
          <p:nvPr/>
        </p:nvPicPr>
        <p:blipFill>
          <a:blip r:embed="rId1"/>
          <a:stretch/>
        </p:blipFill>
        <p:spPr>
          <a:xfrm>
            <a:off x="2743200" y="2133720"/>
            <a:ext cx="5297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rges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utum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orges State Park only became a park in 1999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 has waterfalls, rugged river gorges, sheer rock wall all in one par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ustry – Duke Energy Corporation, environmental community, and Transylvania County went together to get the par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nce it is more like a tropical rainforest with plants from the tropics I would like to spend the week and pretend I am on vaca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oc Mountain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81875a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rlo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Kevi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Content Placeholder 6" descr="medoc mt.jpg"/>
          <p:cNvPicPr/>
          <p:nvPr/>
        </p:nvPicPr>
        <p:blipFill>
          <a:blip r:embed="rId1"/>
          <a:stretch/>
        </p:blipFill>
        <p:spPr>
          <a:xfrm>
            <a:off x="2895480" y="2057400"/>
            <a:ext cx="52102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aw River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58bb8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ashe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av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Content Placeholder 4" descr="haw river.jpg"/>
          <p:cNvPicPr/>
          <p:nvPr/>
        </p:nvPicPr>
        <p:blipFill>
          <a:blip r:embed="rId1"/>
          <a:stretch/>
        </p:blipFill>
        <p:spPr>
          <a:xfrm>
            <a:off x="2568600" y="1981080"/>
            <a:ext cx="5987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Paradis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ashe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a’V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ents send their 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n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6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grade students there in the summer for cam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is the first ever residential environmental education program in N.C. State Park histor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 can learn about animal adaptation, forest ecology, fox, rabbit and coyo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abic Typesetting"/>
              </a:rPr>
              <a:t>If we could go for the day… we would like to stay for the week  and go to camp!!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cconeechee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78279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usti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usti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Content Placeholder 4" descr="occnecchee mt.jpg"/>
          <p:cNvPicPr/>
          <p:nvPr/>
        </p:nvPicPr>
        <p:blipFill>
          <a:blip r:embed="rId1"/>
          <a:stretch/>
        </p:blipFill>
        <p:spPr>
          <a:xfrm>
            <a:off x="2584440" y="1905120"/>
            <a:ext cx="59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mportant Natural Area in the Triang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cconeechee Mountain is the highest point in Orange Coun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 animal like the brown elfin butterfly are found here. They usually live 100 miles away in the mountai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was named for the Occaneechi Indians that lived near b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is not much to do but hike and fish. I would like to catch a ba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ckey’s Ridge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58bb8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le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y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0" name="Content Placeholder 5" descr="ocracoke 030.JPG"/>
          <p:cNvPicPr/>
          <p:nvPr/>
        </p:nvPicPr>
        <p:blipFill>
          <a:blip r:embed="rId1"/>
          <a:stretch/>
        </p:blipFill>
        <p:spPr>
          <a:xfrm>
            <a:off x="2616120" y="175248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Great Big Sandbox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ckey’s Ridge  is a great place for a summer vac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ark is filled with animals and plants such as mice and the Dogwoo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ckey’s Ridge was a landmark for explorers in early1800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yan would go play in the sand dun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eb would build huge castle, then hang glid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ere in the State are Those Park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Content Placeholder 3" descr="nothing ever happens 080.JPG"/>
          <p:cNvPicPr/>
          <p:nvPr/>
        </p:nvPicPr>
        <p:blipFill>
          <a:blip r:embed="rId1"/>
          <a:stretch/>
        </p:blipFill>
        <p:spPr>
          <a:xfrm>
            <a:off x="693720" y="1600200"/>
            <a:ext cx="7991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rks Sorted by Reg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362320" y="1752480"/>
          <a:ext cx="6400800" cy="370836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oast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iedm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olina B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doc Mount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o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mal Sw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cconee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t. Mitch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ockey’s Ri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aw 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w 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ones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ls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ake Waccam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ctures Used in Presen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371600" y="1676520"/>
          <a:ext cx="6400800" cy="351792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edoc Mountain, Jones Lake, Lake Waccamaw, Gorges, Falls Lake, Mt. Mitchell, New River, Haw River – NC State Parks site http://www.ncparks.gov/Visit/main.ph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mal Swamp – by Viki tgaw at Fli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ockey’s Ridge, Classroom map – by Terri Hawl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quiet place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doc Mountain is not really a Mountain at 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are having peace ,calm and quiet  while plants are opening and danc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evin , I would rest while birds are chirping and sing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rlos, I would climb trees, go swimming, and hear the animals play and s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olina Beach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726868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oni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aim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6" name="Content Placeholder 4" descr="carolina beach.jpg"/>
          <p:cNvPicPr/>
          <p:nvPr/>
        </p:nvPicPr>
        <p:blipFill>
          <a:blip r:embed="rId1"/>
          <a:stretch/>
        </p:blipFill>
        <p:spPr>
          <a:xfrm>
            <a:off x="2602080" y="1981080"/>
            <a:ext cx="592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Carolina Beach with fu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 Indians used to rule the  Carolina Beach until they  were defeat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you are going fishing you can catch a Stripe Bass fish or a Sheep Shad fish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is a plant that catches flies and insects at the State Par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 you can go swimm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long leaf pines. They is beautifu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ke Waccamaw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58bb8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Laury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rittan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Content Placeholder 4" descr="lake waccamaw.jpg"/>
          <p:cNvPicPr/>
          <p:nvPr/>
        </p:nvPicPr>
        <p:blipFill>
          <a:blip r:embed="rId1"/>
          <a:stretch/>
        </p:blipFill>
        <p:spPr>
          <a:xfrm>
            <a:off x="2768760" y="1905120"/>
            <a:ext cx="593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ke Waccamaw is a tea-colored lake that is home to plants and animals there are no where else in the world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has 9,000 acres of lake with 14 miles of shoreli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 rare plants found there are the Venus-hair fern, green-fly orchid, seven-angled pipewort, narrowleaf yellow pondlily and water arrowhe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w River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78279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harlott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Content Placeholder 5" descr="new river.jpg"/>
          <p:cNvPicPr/>
          <p:nvPr/>
        </p:nvPicPr>
        <p:blipFill>
          <a:blip r:embed="rId1"/>
          <a:stretch/>
        </p:blipFill>
        <p:spPr>
          <a:xfrm>
            <a:off x="2338560" y="1981080"/>
            <a:ext cx="6448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National Scenic River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harlot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w River is one of the oldest rivers in North Amer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 are many hardwoods, pines, and wildflowers thanks to very fertile soil. Many rare plants grow there like rattlesnake roo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New River dates back to a time before the mountains – millions of years ag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I could go for the day I would love to canoe down the river, through the mountains, and see the trees and flower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0:47:06Z</dcterms:created>
  <dc:creator>bcsuser</dc:creator>
  <dc:description/>
  <dc:language>en-US</dc:language>
  <cp:lastModifiedBy>bcsuser</cp:lastModifiedBy>
  <dcterms:modified xsi:type="dcterms:W3CDTF">2009-02-21T14:17:13Z</dcterms:modified>
  <cp:revision>16</cp:revision>
  <dc:subject/>
  <dc:title>North Carolina                       State Parks</dc:title>
</cp:coreProperties>
</file>